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57EDC7-F6A6-4A60-9190-2B501970EBA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2C3DA4-B806-402A-BFE4-EFFAD8BC5F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870EDE-1ABD-4467-A731-C1AAE6B2AEA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E417C0-68F8-40E1-A30E-2E52DCB0811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9FAB52-191E-4A4D-8380-5B709202953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027344-4409-4B7D-BDD2-DD60EAB33B2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28CFF0-3C8C-4DF7-9CBD-AC505668042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2AC7AF-310C-4AFB-96FC-100153CB6EB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32B537-8840-4F3F-9C18-10D33F271F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699AF7-1857-45AA-A726-837B8FC692D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96DB38-6F0A-446F-9F1A-D7368CEB3F2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9840B4-444C-4464-A954-22F4C657E39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ED5DAD-32A7-41C2-8227-E628E45EE88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436DA6-CFE4-448F-A048-1C61CB5497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4EEB1D-4E04-4929-95F7-89BAC7F417F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A78639-23A2-4B98-AFAF-D15EBAA6E6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1CEF2E-9F30-4023-8853-5D4599B7AF0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FF10A6-C1C5-486C-A6F4-3B90E8E0CB4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F0500F-35BD-457E-A4DD-9A434917D5F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91E396-4D37-46FB-8B37-3467C67D12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F405CE-1F4E-46F9-9C16-29E7336DF5D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06E-A225-4B5F-A5DD-3E2EC2F5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853-7EFC-4144-B51E-68D4308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421-DCE6-4D1F-8EB0-D72FBAE6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A2A-04DD-4AEC-8892-2E79E949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2970-8BFD-45A3-8B86-E870A725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331B-15EE-4D70-B1FD-76701BE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9ED0-41A3-4A5D-BFBD-82B4DB8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9C7E-FB97-4D3B-9655-F24146E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8DF4-AA9D-4114-BBF8-95EC51A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1E25-9418-457A-9508-689F2FD9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126-E3DB-40C4-A2EB-7B9B815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DF1-9A42-456B-B6DA-C1F430D3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4832-8DEB-4BEE-B003-FD9A02C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D00-99BD-4B61-B7B0-5C604E8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640F-209B-4905-9CD1-27ED382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3C8B-BD26-4F21-9499-17F5DFDD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CE9A-9AB1-4821-BA4F-8CAB07AC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21A-6DD1-4255-93A5-A71A768C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72A-D935-43CB-BF9D-3A738F8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6E2-937D-4EF7-A6A7-77A9D9C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A6B-27B1-417B-8B22-40978AD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47F-27F9-49C9-9EDB-864D42A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35C-0467-427C-B03C-60FFBD2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6E0-926D-4CC2-A99B-4BB594C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6D6-89EE-4D62-89EA-C9779B7BE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0FE-7C35-49D1-9D78-FBA9BDE684C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ching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9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150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152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3" name="AutoShape 21"/>
              <p:cNvCxnSpPr>
                <a:stCxn id="152" idx="3"/>
                <a:endCxn id="154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54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6" name="AutoShape 24"/>
              <p:cNvCxnSpPr>
                <a:stCxn id="154" idx="3"/>
                <a:endCxn id="157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8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57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9" name="AutoShape 27"/>
              <p:cNvCxnSpPr>
                <a:stCxn id="157" idx="3"/>
                <a:endCxn id="160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1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60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2" name="AutoShape 30"/>
              <p:cNvCxnSpPr>
                <a:stCxn id="160" idx="3"/>
                <a:endCxn id="163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4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63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33"/>
              <p:cNvCxnSpPr>
                <a:stCxn id="163" idx="3"/>
                <a:endCxn id="166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66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36"/>
              <p:cNvCxnSpPr>
                <a:stCxn id="166" idx="3"/>
                <a:endCxn id="150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9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70" name="AutoShape 37"/>
              <p:cNvCxnSpPr>
                <a:stCxn id="152" idx="0"/>
                <a:endCxn id="160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38"/>
              <p:cNvCxnSpPr>
                <a:stCxn id="160" idx="0"/>
                <a:endCxn id="150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72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74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5" name="AutoShape 43"/>
            <p:cNvCxnSpPr>
              <a:stCxn id="174" idx="3"/>
              <a:endCxn id="176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76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8" name="AutoShape 46"/>
            <p:cNvCxnSpPr>
              <a:stCxn id="176" idx="3"/>
              <a:endCxn id="179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0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79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1" name="AutoShape 49"/>
            <p:cNvCxnSpPr>
              <a:stCxn id="179" idx="3"/>
              <a:endCxn id="182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82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4" name="AutoShape 52"/>
            <p:cNvCxnSpPr>
              <a:stCxn id="182" idx="3"/>
              <a:endCxn id="185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85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7" name="AutoShape 55"/>
            <p:cNvCxnSpPr>
              <a:stCxn id="185" idx="3"/>
              <a:endCxn id="188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88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0" name="AutoShape 58"/>
            <p:cNvCxnSpPr>
              <a:stCxn id="188" idx="3"/>
              <a:endCxn id="191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2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91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61"/>
            <p:cNvCxnSpPr>
              <a:stCxn id="191" idx="3"/>
              <a:endCxn id="172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95" name="AutoShape 65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AutoShape 66"/>
            <p:cNvCxnSpPr>
              <a:stCxn id="185" idx="0"/>
              <a:endCxn id="172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7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205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6" name="AutoShape 8"/>
            <p:cNvCxnSpPr>
              <a:stCxn id="205" idx="3"/>
              <a:endCxn id="207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207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9" name="AutoShape 11"/>
            <p:cNvCxnSpPr>
              <a:stCxn id="207" idx="3"/>
              <a:endCxn id="210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210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2" name="AutoShape 14"/>
            <p:cNvCxnSpPr>
              <a:stCxn id="210" idx="3"/>
              <a:endCxn id="213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213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5" name="AutoShape 17"/>
            <p:cNvCxnSpPr>
              <a:stCxn id="213" idx="3"/>
              <a:endCxn id="216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216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AutoShape 20"/>
            <p:cNvCxnSpPr>
              <a:stCxn id="216" idx="3"/>
              <a:endCxn id="219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219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1" name="AutoShape 23"/>
            <p:cNvCxnSpPr>
              <a:stCxn id="219" idx="3"/>
              <a:endCxn id="203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223" name="AutoShape 25"/>
            <p:cNvCxnSpPr>
              <a:stCxn id="205" idx="0"/>
              <a:endCxn id="213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24" name="AutoShape 26"/>
            <p:cNvCxnSpPr>
              <a:stCxn id="213" idx="0"/>
              <a:endCxn id="203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25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227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31"/>
            <p:cNvCxnSpPr>
              <a:stCxn id="227" idx="3"/>
              <a:endCxn id="229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229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34"/>
            <p:cNvCxnSpPr>
              <a:stCxn id="229" idx="3"/>
              <a:endCxn id="232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232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37"/>
            <p:cNvCxnSpPr>
              <a:stCxn id="232" idx="3"/>
              <a:endCxn id="235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235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40"/>
            <p:cNvCxnSpPr>
              <a:stCxn id="235" idx="3"/>
              <a:endCxn id="238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238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43"/>
            <p:cNvCxnSpPr>
              <a:stCxn id="238" idx="3"/>
              <a:endCxn id="241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2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241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1" idx="3"/>
              <a:endCxn id="244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244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6" name="AutoShape 49"/>
            <p:cNvCxnSpPr>
              <a:stCxn id="244" idx="3"/>
              <a:endCxn id="225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248" name="AutoShape 51"/>
            <p:cNvCxnSpPr>
              <a:stCxn id="227" idx="0"/>
              <a:endCxn id="238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49" name="AutoShape 52"/>
            <p:cNvCxnSpPr>
              <a:stCxn id="238" idx="0"/>
              <a:endCxn id="225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50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61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69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0" name="AutoShape 6"/>
            <p:cNvCxnSpPr>
              <a:stCxn id="269" idx="3"/>
              <a:endCxn id="267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72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3" name="AutoShape 10"/>
            <p:cNvCxnSpPr>
              <a:stCxn id="272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75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6" name="AutoShape 13"/>
            <p:cNvCxnSpPr>
              <a:stCxn id="275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78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9" name="AutoShape 16"/>
            <p:cNvCxnSpPr>
              <a:stCxn id="278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0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81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2" name="AutoShape 19"/>
            <p:cNvCxnSpPr>
              <a:stCxn id="281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3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84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5" name="AutoShape 22"/>
            <p:cNvCxnSpPr>
              <a:stCxn id="284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87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8" name="AutoShape 25"/>
            <p:cNvCxnSpPr>
              <a:stCxn id="287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90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1" name="AutoShape 28"/>
            <p:cNvCxnSpPr>
              <a:stCxn id="290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93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31"/>
            <p:cNvCxnSpPr>
              <a:stCxn id="293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97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8" name="AutoShape 35"/>
            <p:cNvCxnSpPr>
              <a:stCxn id="297" idx="3"/>
              <a:endCxn id="295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300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1" name="AutoShape 38"/>
            <p:cNvCxnSpPr>
              <a:stCxn id="300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303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4" name="AutoShape 41"/>
            <p:cNvCxnSpPr>
              <a:stCxn id="303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306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7" name="AutoShape 44"/>
            <p:cNvCxnSpPr>
              <a:stCxn id="306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309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0" name="AutoShape 47"/>
            <p:cNvCxnSpPr>
              <a:stCxn id="309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1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312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3" name="AutoShape 50"/>
            <p:cNvCxnSpPr>
              <a:stCxn id="312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315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6" name="AutoShape 53"/>
            <p:cNvCxnSpPr>
              <a:stCxn id="315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318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9" name="AutoShape 56"/>
            <p:cNvCxnSpPr>
              <a:stCxn id="318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321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2" name="AutoShape 59"/>
            <p:cNvCxnSpPr>
              <a:stCxn id="321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23" name="AutoShape 60"/>
          <p:cNvCxnSpPr>
            <a:stCxn id="269" idx="0"/>
            <a:endCxn id="275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61"/>
          <p:cNvCxnSpPr>
            <a:stCxn id="275" idx="0"/>
            <a:endCxn id="281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62"/>
          <p:cNvCxnSpPr>
            <a:stCxn id="281" idx="0"/>
            <a:endCxn id="287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63"/>
          <p:cNvCxnSpPr>
            <a:stCxn id="287" idx="0"/>
            <a:endCxn id="293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4"/>
          <p:cNvCxnSpPr>
            <a:stCxn id="297" idx="0"/>
            <a:endCxn id="312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5"/>
          <p:cNvCxnSpPr>
            <a:stCxn id="312" idx="0"/>
            <a:endCxn id="295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9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330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1" name="AutoShape 68"/>
            <p:cNvCxnSpPr>
              <a:stCxn id="330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333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4" name="AutoShape 71"/>
            <p:cNvCxnSpPr>
              <a:stCxn id="333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AutoShape 72"/>
          <p:cNvCxnSpPr>
            <a:stCxn id="293" idx="0"/>
            <a:endCxn id="267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e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w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prob access an item in pos i..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with one single sk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avg cost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maximum numb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1_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n^2) time for a fixed 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2-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2-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-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-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0-17T08:42:17Z</dcterms:modified>
  <cp:revision>1219</cp:revision>
  <dc:subject/>
  <dc:title>Web Algorithmics</dc:title>
</cp:coreProperties>
</file>